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9BCA-3771-4E4E-915B-34CC78A312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22DC-1860-4E0B-8FB6-206981DC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8258E-087C-4EB9-BE36-BA8ADF7F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22893-8733-471E-9822-E651F3B565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18D7-FC66-4292-BD6F-8C34925C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32A7-B999-418C-B5BB-AB68002C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E336-99F7-4726-9E43-E7834508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7BE2E-E8A7-4038-8F1A-612E1F384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A6A7-C93C-4E88-822F-D02EA7F3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DD86E-28FC-43AB-BD86-D7F226CF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1754-6BE6-489B-AC9F-301C4BFA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641C-9C8B-4B48-9F97-9EB5047F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838A-6A9D-4C55-804F-E24A7968D9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440" y="2205000"/>
            <a:ext cx="5977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第四章 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第六节    中国传统康复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661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毕桂芝</a:t>
            </a:r>
            <a:r>
              <a:rPr b="0" lang="zh-CN" sz="4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火罐法 ：闪火法 、投火法 、贴壁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水罐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抽气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3904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起罐的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适应证与禁忌证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37576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治疗作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按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擦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摩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22304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推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拿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揉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四、推拿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2964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手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搓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拍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捶法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729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康复法种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五、传统体育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29612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太极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八段锦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易筋经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9212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六、中药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84000" y="1341360"/>
            <a:ext cx="813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在中医理论的指导下，辨证应用中药，以治疗疾病或促进康复的一种方法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包括植物药、动物药、矿物药及部分化学、生物制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作用：舒经活络、强筋健骨、行气活血、化瘀止痛、益气养血、扶正祛邪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七、饮食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55640" y="1989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符合辨证施治的原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所用之食物，必须与所用之药相辅佐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Calibri"/>
                <a:ea typeface="宋体"/>
              </a:rPr>
              <a:t>饮食宜清淡，反对膏粱厚味、过食肥甘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55640" y="1341360"/>
            <a:ext cx="76564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针灸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推拿疗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传统体育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中药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饮食疗法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736740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中医理论的指导下对患者进行康复治疗的方法 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通经活络，促进康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行气活血，散寒止痛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扶正祛邪，调整阴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56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处方原则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选穴的原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近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远部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随症取穴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配穴方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71600"/>
            <a:ext cx="784872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刺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体位 ：仰卧位、侧卧位、坐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消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进针方法：指切进针法 、夹持进针法 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提捏进针法 、舒张进针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79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针灸疗法应用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灸法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条灸 ：温和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雀啄灸、回旋灸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药条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艾炷灸：直接灸 、隔姜灸、隔蒜灸 、隔饼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针灸疗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8560" y="1371240"/>
            <a:ext cx="597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舒适的体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针刺部位及手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避免意外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异常情况的处理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三、拔罐疗法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2060280"/>
            <a:ext cx="86644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拔罐的部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疼痛部位或相应穴位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55:34Z</dcterms:modified>
  <cp:revision>92</cp:revision>
  <dc:subject/>
  <dc:title>内科护理学</dc:title>
</cp:coreProperties>
</file>